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35.png" ContentType="image/png"/>
  <Override PartName="/ppt/media/image40.png" ContentType="image/png"/>
  <Override PartName="/ppt/media/image45.png" ContentType="image/png"/>
  <Override PartName="/ppt/media/image46.png" ContentType="image/png"/>
  <Override PartName="/ppt/media/image19.jpeg" ContentType="image/jpeg"/>
  <Override PartName="/ppt/media/image49.png" ContentType="image/png"/>
  <Override PartName="/ppt/media/image51.png" ContentType="image/png"/>
  <Override PartName="/ppt/media/image31.jpeg" ContentType="image/jpeg"/>
  <Override PartName="/ppt/media/image41.png" ContentType="image/png"/>
  <Override PartName="/ppt/media/image53.png" ContentType="image/png"/>
  <Override PartName="/ppt/media/image30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4539-0395-409E-8191-714395B4AF6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D0EC-F64E-4F03-BD9C-8ADA1450684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E3EF-40CE-4578-AE3B-BD040932D55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2A6B-796F-4963-96E2-7E31C9F7005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044C-5E38-4BD2-B214-CDE25A21E74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758E-20E9-4E39-9164-0D1C6A6800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AE61-8ADE-4430-897A-3FC1CF8F196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A818-CD80-4AD9-8C98-CDB4135357B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16A5-F863-4420-86B9-8B70E15DDF8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65BD-14C3-4E48-ACAC-053DC22FF2A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E08B-D2D6-4D75-A571-FC92ABA5D9A4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7686-6B5A-4B47-B3F4-64D3E23BA9C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3C03-F7BC-4FA8-BD2A-207F317882E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7492-F44A-489B-A8B8-CB240118C8D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442E-951D-46EA-818A-17A99184721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7728-4C50-40BF-9695-E4D4FC33452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Notice the nitrogen/oxygens follwo pattern for h-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91A5-A9B2-4C43-B6C7-140802A0F00C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C5E7-89DB-4183-A603-1FC7B702CCB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Device similar to a spectroscope would be useful to accurately analyze the colour and match to known composition/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BF9F-9A64-4643-8EA8-AD1C685516A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Other methods of chromatography have other methods of quantifying the results. These are more accurate in many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5351-9F5C-4C77-B4D8-A4E7D06EB0A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9B8B-10C4-4417-AB2E-9ADA0386FDE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662F-F76F-4EE1-9174-1039124F374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s by Capillary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matrix inside large metal tube (“packed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7207-EF27-4FD5-BA30-94300B94F1F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8DB3-C13D-4A95-BBD5-0ACCE83B662F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s by Capillary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matrix inside large metal tube (“packed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s by Capillary 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 matrix inside large metal tube (“packed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503A-8D43-430B-B55F-C31E1855B09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905C-A71A-4471-8DC7-2B5C833B239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2F6A-BCBC-40E0-928E-6552AC28A3FB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FAFF-A716-406C-B8DC-B8E5CC869D8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F89D-E2C4-4B9C-A9B7-A4D118EC8D2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6752-687D-45EA-AD50-85ADB937EBF8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1F69-5A4B-4285-9526-8347D12960B2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EE52-18B4-4F8A-BDEF-1DBD969AC00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219-F40F-417C-A0B2-658E66E5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78E6-A0A5-45BD-B88E-8D0B1812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29C-8D20-47EF-8FD7-7D1F931E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6A1-B8DB-45BD-9008-88526ED71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289F-1BF8-4763-9CC6-BAFD9B0A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C627-35D0-4B5A-99B2-90A1C3C4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A997-8E56-497F-9071-54DA4EAA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F3C1-30AB-4319-9FBE-05CBFEAC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8F1F-F18A-4A87-B508-894DA517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0926-03C4-4E37-BC1F-A6720C45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7453-7C45-4F3A-AD53-F34CE3D5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3BA-7D79-45C6-AE7E-9E779569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41C7-AE77-4C9A-BA13-7849F380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5623-85A2-4F9C-96AB-1E22A6A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F5BE-E424-491A-965F-970358AD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F24B8-B524-4FCB-9441-BE481842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FD2A-30C7-490A-9A71-4D84B1CF6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E4F79-3F76-4E8A-95FE-0630D3F1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7DBFE-1E86-4552-A190-D82A82E0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DC21-9243-45D1-85F0-05F3DFB6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499E-93D1-4CBC-B2EA-4B92D413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CB6D-A115-4740-8EE1-A71567F8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3A2-F7E8-46F1-86B2-5A4B4050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1411-00DE-4078-BE2F-684EEC65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E99D7-1905-4673-B8E1-9132D5AF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B63E-88C2-4018-A9C4-FC0484F1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7CE4D-68FC-465C-A107-0C09CD25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3C96-3625-45A4-8BFF-A7D790E0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3B76-71BA-46DD-AC60-56AB59EB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2FD3B-917E-4C3A-8D77-743B5C50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BD86-E496-4170-BFB7-FBD6F894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6399-EEAB-4DF2-B24D-DF8CBB2B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CCC7-EC7F-48B8-B0F2-CB3682D1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F5F9-1A16-4EAB-ABCF-6B6DC218B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660B-94F6-43B5-AB29-79FED822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CC32-2DF8-4D62-9B90-88DB0256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DEC25-75B4-43A3-8F0E-A78A3E00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8E9A1-8F0E-4AE8-B282-7A92B868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8573-7BB5-49B2-8120-1CC5C03C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8140-08A3-4764-B068-DCC0BBAB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3A001-A1AE-47DC-A141-E1DDDFB4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287DC-3BAC-4B98-A53C-1C1D43D5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C10A3-9A7F-468F-A84D-8533B745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49982-A802-4C11-A3BC-94DA5C71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856-28FA-43F5-B601-4EEC607B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923F-7202-4D4A-B3C2-393CDEFF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86A63-CD5B-4E10-B4CC-4C9A60BB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EAAC7-EB06-41FE-95C2-469B443C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0ADD7-A5F2-436F-83FD-73672F26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F3B9A-7209-482C-AF0A-B2F558B2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40D63-2FDA-43B1-B60C-3A7B0240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123D-DE4B-4CFD-92CB-930F0C91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CD734-5E4A-4AB4-A401-EB09BE2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9963F-7B83-47C0-8E7F-B806B435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B43D3-F6DA-4E9F-86B9-5B337455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CDA-6D1F-4B2B-9628-D0063B10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A5DF-CDAE-40B0-89CF-730BD712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B9CB-C06D-4513-8AA9-EBF1E554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54667-0097-4483-8F55-53DAE765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09AC0-AA8A-4D63-8FDA-971AAB61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094BA-6120-49C2-B35B-1EB5A9A3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ADFFA-8EBD-4B7F-A761-9EA565AC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BDB2E-F9FA-4892-AE78-F8A852C9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8835E-E8B6-42F7-A496-AB2BACF3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F56D0-318C-4679-88BC-A7D82F6A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B194F-15A7-44DC-8012-B347E8BA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6C0-4605-4567-AC62-F00F591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1DA37-99DB-4828-B035-961B9C24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6CE01-7D4D-438B-8974-974D08D26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7E6FC-C21E-4573-BC3F-089E7D7A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D06C5-6821-46A0-8C8D-EF987D91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8BB77-DC35-4A0B-80E4-77969326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6BC93-E855-4AD0-ABDA-128BFC76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7412-DD73-4DCA-9996-9D711E02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CD30A-E4E2-468F-86D7-FB53F776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A6A20-2CD7-4FDA-ABBE-3BC1CECF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D184C-27E1-407B-927C-47EB35C8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0BC8-31AB-45A8-AED9-6B6A856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49EC8-A622-4CA5-A856-BAA359AB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B071F-8549-46AE-AF5E-18A42FED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7A770-0419-4384-BA02-1E99BA1E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0363E-080A-403A-81F6-FAE62FAE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B4BDC-720E-4548-ADD3-554D4014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AF4C-0072-4A6E-BE8A-60A98D7B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7E01-9434-40AE-9CFA-EBE767316F22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7A14-B7CC-4AE4-BF38-FAFF36A3A5D2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F67E-A528-47D9-B7B2-285A71A81753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E468-4E95-4E11-A89B-2923336E56D7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CB62-5959-467E-9CE9-B19A54369ECA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855-8191-4116-8F2E-688A00E08CED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F2B6-8D1C-457B-8E04-D7458B61CBF9}" type="slidenum">
              <a:rPr b="0" lang="en-CA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2214360"/>
            <a:ext cx="8077320" cy="11142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am Hasham, Sam Heavenrich, Jayanth Prakhya, Enoch Tieu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pic>
        <p:nvPicPr>
          <p:cNvPr id="337" name="Content Placeholder 5" descr="n710172737_1616626_2345.jpg"/>
          <p:cNvPicPr/>
          <p:nvPr/>
        </p:nvPicPr>
        <p:blipFill>
          <a:blip r:embed="rId2"/>
          <a:stretch/>
        </p:blipFill>
        <p:spPr>
          <a:xfrm>
            <a:off x="357120" y="1857240"/>
            <a:ext cx="3962520" cy="3714840"/>
          </a:xfrm>
          <a:prstGeom prst="rect">
            <a:avLst/>
          </a:prstGeom>
          <a:ln w="0">
            <a:noFill/>
          </a:ln>
        </p:spPr>
      </p:pic>
      <p:pic>
        <p:nvPicPr>
          <p:cNvPr id="338" name="Content Placeholder 6" descr="n710172737_1616631_3705.jpg"/>
          <p:cNvPicPr/>
          <p:nvPr/>
        </p:nvPicPr>
        <p:blipFill>
          <a:blip r:embed="rId3"/>
          <a:stretch/>
        </p:blipFill>
        <p:spPr>
          <a:xfrm>
            <a:off x="4381560" y="1857240"/>
            <a:ext cx="46195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213840" y="1571760"/>
            <a:ext cx="4714920" cy="52862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Pigment applied to Strip of Chromatography Paper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Strips hung on rack at equal lengths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Adsorbent added (70% Isopropyl Alcohol) 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Rack removed once solvent travelled to the top of each strip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The final position of solvent marke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The final position of pigments marke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Corbel"/>
              </a:rPr>
              <a:t>Distance travelled by the mobile phase and each colour measured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6" descr="pour.jpg"/>
          <p:cNvPicPr/>
          <p:nvPr/>
        </p:nvPicPr>
        <p:blipFill>
          <a:blip r:embed="rId2"/>
          <a:stretch/>
        </p:blipFill>
        <p:spPr>
          <a:xfrm>
            <a:off x="4775040" y="2286000"/>
            <a:ext cx="42134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2"/>
          <p:cNvSpPr/>
          <p:nvPr/>
        </p:nvSpPr>
        <p:spPr>
          <a:xfrm>
            <a:off x="5214960" y="142920"/>
            <a:ext cx="392904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View Demo using the ‘Play’ button after each step. Do not proceed after the Gas Chromatography Demo appears. Use arrow keys for nex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ShockwaveFlash1"/>
          <p:cNvGraphicFramePr/>
          <p:nvPr/>
        </p:nvGraphicFramePr>
        <p:xfrm>
          <a:off x="0" y="1700280"/>
          <a:ext cx="9036000" cy="515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036000" cy="5157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49" name="Content Placeholder 3" descr="1.jpg"/>
          <p:cNvPicPr/>
          <p:nvPr/>
        </p:nvPicPr>
        <p:blipFill>
          <a:blip r:embed="rId2"/>
          <a:stretch/>
        </p:blipFill>
        <p:spPr>
          <a:xfrm>
            <a:off x="1214280" y="1714680"/>
            <a:ext cx="6786720" cy="38192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28400" y="5857560"/>
            <a:ext cx="8001000" cy="733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ixture involving Red, Yellow, and Blue Food Coloring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1 minut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99680" y="5928840"/>
            <a:ext cx="8001000" cy="66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ixture involving Red, Yellow, and Blue Food Coloring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6 minu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Content Placeholder 3" descr="2.jpg"/>
          <p:cNvPicPr/>
          <p:nvPr/>
        </p:nvPicPr>
        <p:blipFill>
          <a:blip r:embed="rId2"/>
          <a:srcRect l="12474" t="0" r="12474" b="0"/>
          <a:stretch/>
        </p:blipFill>
        <p:spPr>
          <a:xfrm>
            <a:off x="1428840" y="164304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99680" y="5857560"/>
            <a:ext cx="8001000" cy="733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0000"/>
          </a:bodyPr>
          <a:p>
            <a:pPr marL="394200" indent="-286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Mixture involving Red, Yellow, and Blue Food Coloring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18 minu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Content Placeholder 3" descr="3.jpg"/>
          <p:cNvPicPr/>
          <p:nvPr/>
        </p:nvPicPr>
        <p:blipFill>
          <a:blip r:embed="rId2"/>
          <a:srcRect l="12474" t="0" r="12474" b="0"/>
          <a:stretch/>
        </p:blipFill>
        <p:spPr>
          <a:xfrm>
            <a:off x="1752480" y="1643040"/>
            <a:ext cx="56199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99680" y="6000840"/>
            <a:ext cx="8001000" cy="590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The Spinach, Pomegranate and Blue Pig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Approximate elapsed time 0 minut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Content Placeholder 3" descr="4.jpg"/>
          <p:cNvPicPr/>
          <p:nvPr/>
        </p:nvPicPr>
        <p:blipFill>
          <a:blip r:embed="rId2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99680" y="5928840"/>
            <a:ext cx="8001000" cy="66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Spinach, Pomegranate and Blue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5 minu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2" name="Content Placeholder 3" descr="5.jpg"/>
          <p:cNvPicPr/>
          <p:nvPr/>
        </p:nvPicPr>
        <p:blipFill>
          <a:blip r:embed="rId2"/>
          <a:stretch/>
        </p:blipFill>
        <p:spPr>
          <a:xfrm>
            <a:off x="1857240" y="164304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99680" y="5928840"/>
            <a:ext cx="8001000" cy="66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The Spinach, Pomegranate and Blue Pigme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pproximate elapsed time 13 minut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Content Placeholder 3" descr="6.jpg"/>
          <p:cNvPicPr/>
          <p:nvPr/>
        </p:nvPicPr>
        <p:blipFill>
          <a:blip r:embed="rId2"/>
          <a:stretch/>
        </p:blipFill>
        <p:spPr>
          <a:xfrm>
            <a:off x="1785960" y="15717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599840"/>
            <a:ext cx="4114800" cy="49006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fined as Rate of Flow or Retention Fact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lculated by dividing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stance travelled by a component” ove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stance travelled by the mobile phase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4" descr="dry.jpg"/>
          <p:cNvPicPr/>
          <p:nvPr/>
        </p:nvPicPr>
        <p:blipFill>
          <a:blip r:embed="rId2"/>
          <a:stretch/>
        </p:blipFill>
        <p:spPr>
          <a:xfrm>
            <a:off x="5143680" y="1571760"/>
            <a:ext cx="32860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1428840"/>
            <a:ext cx="8458200" cy="5276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Separates mixtures (physical method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Involve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Stationary Phase; Surfa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Mobile Phase; Solvent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Quantifiabl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Retention Factor / Rate of Flow (Rf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Can b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Preparative: separates mixture for further 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Analytical: measures relative proportions of compon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Preparative more easily studi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685800" y="63244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2060"/>
                </a:solidFill>
                <a:latin typeface="Calibri"/>
              </a:rPr>
              <a:t>Rf = Distance traveled by solute/Distance traveled by sol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0" name=""/>
          <p:cNvGraphicFramePr/>
          <p:nvPr/>
        </p:nvGraphicFramePr>
        <p:xfrm>
          <a:off x="285840" y="1643040"/>
          <a:ext cx="8643960" cy="4664160"/>
        </p:xfrm>
        <a:graphic>
          <a:graphicData uri="http://schemas.openxmlformats.org/drawingml/2006/table">
            <a:tbl>
              <a:tblPr/>
              <a:tblGrid>
                <a:gridCol w="5786280"/>
                <a:gridCol w="2857680"/>
              </a:tblGrid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Distance Travelled (c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Mobile Phase / Adsorbent  (70% Isopropyl Rubbing Alcoh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Red Food Coloring (In Mixtur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Yellow Food Coloring (In Mixtur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Blue Food Coloring (In Mixtur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Green Food Coloring (Yellow Compon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Green Food Coloring (Blue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pinach Juice (Yellow Component 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pinach Juice (Yellow Component 2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Spinach Juice (Green Compon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omegranate Juice (Orchid Purple Compon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Times New Roman"/>
                        </a:rPr>
                        <a:t>Pomegranate Juice (Light Salmon Pink Componen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alibri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357120" y="1643040"/>
          <a:ext cx="8429760" cy="4843440"/>
        </p:xfrm>
        <a:graphic>
          <a:graphicData uri="http://schemas.openxmlformats.org/drawingml/2006/table">
            <a:tbl>
              <a:tblPr/>
              <a:tblGrid>
                <a:gridCol w="5143680"/>
                <a:gridCol w="3286080"/>
              </a:tblGrid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d Food Coloring (in Mix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Food Coloring (in Mix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lue Food Coloring (in Mix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reen Food Coloring (Yellow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reen Food Coloring (Blue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pinach Extract (Yellow Component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9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pinach Extract (Yellow Component 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pinach Extract (Green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omegranate Extract (Orchid Purple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omegranate Extract (Light Salmon Pink Compon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6840" y="1600200"/>
            <a:ext cx="7900920" cy="5043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Rf = Degree of  Adsorp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Variances caused by Intermolecular Forc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Between Solute and Mobile Phase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Solute carried further by Adsorbent / More adsorption when the forces between them are greate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Forces between Solute and Stationary Phas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More adsorbtion onto Stationary Phase when the forces between them are greate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In Both Cas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Polarity Major Facto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H-bonding Larger Factor but capability limited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lnSpc>
                <a:spcPct val="9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London’s Dispersion Forces Weak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571760"/>
            <a:ext cx="6472080" cy="52862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9000"/>
          </a:bodyPr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orbel"/>
              </a:rPr>
              <a:t>Mixture of Food Coloring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Molecular Formula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Red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8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4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a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8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Yellow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6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0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a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7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Blue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6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0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H-Bonding Patter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Relatively Similar Polarit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Long Hydrocarbon Chain = Low Polarity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Cellulose Chromatography Paper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8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Corbel"/>
              </a:rPr>
              <a:t>Green Coloring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Yellow and Blue Component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Yellow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6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9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a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3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9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S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Blue: C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6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10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19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rbel"/>
              </a:rPr>
              <a:t>Same Blue Dye; Different Yellow Dy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igher Polarity Due to Presence of Sodium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85320" indent="-22608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orbel"/>
              </a:rPr>
              <a:t>Higher Number of Nitrogen Atom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357880" y="1714680"/>
          <a:ext cx="3452760" cy="1752480"/>
        </p:xfrm>
        <a:graphic>
          <a:graphicData uri="http://schemas.openxmlformats.org/drawingml/2006/table">
            <a:tbl>
              <a:tblPr/>
              <a:tblGrid>
                <a:gridCol w="2214360"/>
                <a:gridCol w="1238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onent (in Food Coloring Mixt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ed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lue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5357880" y="4429080"/>
          <a:ext cx="3452760" cy="138132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onent (in Green Food Color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lue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mol.jpg"/>
          <p:cNvPicPr/>
          <p:nvPr/>
        </p:nvPicPr>
        <p:blipFill>
          <a:blip r:embed="rId1"/>
          <a:stretch/>
        </p:blipFill>
        <p:spPr>
          <a:xfrm>
            <a:off x="4148280" y="3857760"/>
            <a:ext cx="4995720" cy="3000240"/>
          </a:xfrm>
          <a:prstGeom prst="rect">
            <a:avLst/>
          </a:prstGeom>
          <a:ln w="0">
            <a:noFill/>
          </a:ln>
        </p:spPr>
      </p:pic>
      <p:pic>
        <p:nvPicPr>
          <p:cNvPr id="380" name="Title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142920" y="1571760"/>
            <a:ext cx="5214960" cy="52862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pinach Extrac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Molecular Formula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Yellow 1: Carotenes: C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40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Yellow 2: Xanthophylls: C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40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56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Green: Chlorophyll B: C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55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H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70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6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4</a:t>
            </a: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Mg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H-Bonding comm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Carotenes Not-Pol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Xanthophylls’ O</a:t>
            </a:r>
            <a:r>
              <a:rPr b="0" lang="en-CA" sz="2400" spc="-1" strike="noStrike" baseline="-25000">
                <a:solidFill>
                  <a:srgbClr val="000000"/>
                </a:solidFill>
                <a:latin typeface="Corbe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5214960" y="1785960"/>
          <a:ext cx="3452760" cy="1747800"/>
        </p:xfrm>
        <a:graphic>
          <a:graphicData uri="http://schemas.openxmlformats.org/drawingml/2006/table">
            <a:tbl>
              <a:tblPr/>
              <a:tblGrid>
                <a:gridCol w="2214720"/>
                <a:gridCol w="1238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Component (in Spinach Extra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Component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llow Component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reen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Pomegranate Analysi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Not Exact / Quantifiab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Not Definite </a:t>
            </a:r>
            <a:r>
              <a:rPr b="0" lang="en-CA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 Colours Subjectiv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Components found in mixture can’t be re-us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Neither Preparative nor Analytica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Other Types such as Gas Chromatography provide the components in usable form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Prior Knowledge Required of Component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Only Identifiable if know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649"/>
              </a:spcBef>
              <a:buClr>
                <a:srgbClr val="60b5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Incorrect Identific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>
            <a:off x="214200" y="3500280"/>
            <a:ext cx="4357800" cy="3143520"/>
          </a:xfrm>
          <a:prstGeom prst="rect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214880" y="1571400"/>
            <a:ext cx="4929120" cy="5143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All Rf Values are Relat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Paper &amp; Some Types of Thin Layer Chromatograph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Other Method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25560" indent="-212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Distribution Constant and Concentration More Reli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130760" indent="-1695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Freundlich Equation for Adsorp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130760" indent="-1695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Kovats Retention Index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130760" indent="-169560">
              <a:spcBef>
                <a:spcPts val="499"/>
              </a:spcBef>
              <a:buClr>
                <a:srgbClr val="6bb76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orbel"/>
              </a:rPr>
              <a:t>Van Deemter Equ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8" name="Picture 2" descr="(K_D)_A = {(a_A)_{org} \over(a_A)_{aq}} \approx {[A]_{org} \over[A]_{aq}}"/>
          <p:cNvPicPr/>
          <p:nvPr/>
        </p:nvPicPr>
        <p:blipFill>
          <a:blip r:embed="rId2"/>
          <a:stretch/>
        </p:blipFill>
        <p:spPr>
          <a:xfrm>
            <a:off x="785880" y="3643200"/>
            <a:ext cx="3214800" cy="7146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\ x/m=Kc^{1/n}"/>
          <p:cNvPicPr/>
          <p:nvPr/>
        </p:nvPicPr>
        <p:blipFill>
          <a:blip r:embed="rId3"/>
          <a:stretch/>
        </p:blipFill>
        <p:spPr>
          <a:xfrm>
            <a:off x="1071720" y="4500720"/>
            <a:ext cx="2571480" cy="5461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I = 100 \times \left [ n + ( N - n ) \frac{log (t_{r (unknown)} ') - log (t_{r (n)} ')}{log (t_{r (N)} ') - log (t_{r (n)} ')} \right ] "/>
          <p:cNvPicPr/>
          <p:nvPr/>
        </p:nvPicPr>
        <p:blipFill>
          <a:blip r:embed="rId4"/>
          <a:stretch/>
        </p:blipFill>
        <p:spPr>
          <a:xfrm>
            <a:off x="285840" y="5143680"/>
            <a:ext cx="4190760" cy="5806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 H = A + \frac{B}{u} + C \cdot u "/>
          <p:cNvPicPr/>
          <p:nvPr/>
        </p:nvPicPr>
        <p:blipFill>
          <a:blip r:embed="rId5"/>
          <a:stretch/>
        </p:blipFill>
        <p:spPr>
          <a:xfrm>
            <a:off x="1071720" y="5857920"/>
            <a:ext cx="2643120" cy="6681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" descr="\ R_f = \frac{\mbox{migration distance of substance}}{\mbox{migration distance of solvent front}}"/>
          <p:cNvPicPr/>
          <p:nvPr/>
        </p:nvPicPr>
        <p:blipFill>
          <a:blip r:embed="rId6"/>
          <a:stretch/>
        </p:blipFill>
        <p:spPr>
          <a:xfrm>
            <a:off x="500040" y="1928880"/>
            <a:ext cx="3670200" cy="500040"/>
          </a:xfrm>
          <a:prstGeom prst="rect">
            <a:avLst/>
          </a:prstGeom>
          <a:ln w="0">
            <a:noFill/>
          </a:ln>
        </p:spPr>
      </p:pic>
      <p:sp>
        <p:nvSpPr>
          <p:cNvPr id="393" name="TextBox 8"/>
          <p:cNvSpPr/>
          <p:nvPr/>
        </p:nvSpPr>
        <p:spPr>
          <a:xfrm>
            <a:off x="214200" y="27147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orbel"/>
              </a:rPr>
              <a:t>Below:  More sophisticated methods of quantifying chromatography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Safety Concer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Safety Goggles must be worn at all ti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Any contact with the alcohol must be avoid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Alcohol is Very Flammable and requires a well-ventilated are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More Sample Pig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Various Adsorb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700"/>
              </a:spcBef>
              <a:buClr>
                <a:srgbClr val="60b5c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The more data, the more definite the resul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3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2400"/>
          </a:xfrm>
          <a:prstGeom prst="rect">
            <a:avLst/>
          </a:prstGeom>
          <a:ln w="0">
            <a:noFill/>
          </a:ln>
        </p:spPr>
      </p:pic>
      <p:sp>
        <p:nvSpPr>
          <p:cNvPr id="397" name="Content Placeholder 3"/>
          <p:cNvSpPr/>
          <p:nvPr/>
        </p:nvSpPr>
        <p:spPr>
          <a:xfrm>
            <a:off x="785880" y="3214800"/>
            <a:ext cx="7715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n-Layer Chro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as Chromatography (In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quid Chro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356760" y="1642680"/>
            <a:ext cx="4714920" cy="500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Thin-Layer Chromatograph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Corbel"/>
              </a:rPr>
              <a:t>Mobile Phase: Solution; Stationary Phase: Flat Sheet of Adsorbent (e.g. Silica Gel)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rbel"/>
              </a:rPr>
              <a:t>Analyzing organic reaction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Components are separated using TLC plate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They can then be scraped off to be analyzed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52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Other </a:t>
            </a:r>
            <a:r>
              <a:rPr b="0" lang="en-US" sz="2100" spc="-1" strike="noStrike">
                <a:solidFill>
                  <a:srgbClr val="000000"/>
                </a:solidFill>
                <a:latin typeface="Corbel"/>
              </a:rPr>
              <a:t>Application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assaying radiochemical purity of radiopharmaceutical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lant pigments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76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detection of pesticides or insecticides 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0" name="Picture 4" descr=""/>
          <p:cNvPicPr/>
          <p:nvPr/>
        </p:nvPicPr>
        <p:blipFill>
          <a:blip r:embed="rId2"/>
          <a:stretch/>
        </p:blipFill>
        <p:spPr>
          <a:xfrm>
            <a:off x="5286240" y="1857240"/>
            <a:ext cx="335772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000320" y="1571400"/>
            <a:ext cx="4686120" cy="51433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Mikhail Semenovich Tsvet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Separate Tints / Types of Chromatography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Trickled mixture through glass tube with Calcium Carbonate powder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Pigments stuck to powder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Different degrees of strength </a:t>
            </a:r>
            <a:r>
              <a:rPr b="0" lang="en-CA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 Coloured bands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Picture 2" descr="http://upload.wikimedia.org/wikipedia/commons/3/3d/Tsvet_ms.jpg"/>
          <p:cNvPicPr/>
          <p:nvPr/>
        </p:nvPicPr>
        <p:blipFill>
          <a:blip r:embed="rId2"/>
          <a:stretch/>
        </p:blipFill>
        <p:spPr>
          <a:xfrm>
            <a:off x="428760" y="2214720"/>
            <a:ext cx="278604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2" name="TextBox 3"/>
          <p:cNvSpPr/>
          <p:nvPr/>
        </p:nvSpPr>
        <p:spPr>
          <a:xfrm>
            <a:off x="6357960" y="357120"/>
            <a:ext cx="25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Corbel"/>
              </a:rPr>
              <a:t>Click ‘Next Example’ to View Gas Chromatography De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ShockwaveFlash1"/>
          <p:cNvGraphicFramePr/>
          <p:nvPr/>
        </p:nvGraphicFramePr>
        <p:xfrm>
          <a:off x="108000" y="1700280"/>
          <a:ext cx="8604360" cy="494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700280"/>
                    <a:ext cx="8604360" cy="4941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85480" y="1642680"/>
            <a:ext cx="4786200" cy="5072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orbel"/>
              </a:rPr>
              <a:t>Gas Chromatography          (In Colum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rbel"/>
              </a:rPr>
              <a:t>Mobile Phase: Gas;    Stationary Phase: Solid/Liqui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lood alcohol analysis  in forensic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Blood analyzed using capillary colum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Column Pressure 20 psi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ydrogen is mobile phas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Other Applic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nvironmental monitoring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rug, bomb detec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Picture 4" descr=""/>
          <p:cNvPicPr/>
          <p:nvPr/>
        </p:nvPicPr>
        <p:blipFill>
          <a:blip r:embed="rId2"/>
          <a:stretch/>
        </p:blipFill>
        <p:spPr>
          <a:xfrm>
            <a:off x="4929120" y="2143080"/>
            <a:ext cx="35719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"/>
          <p:cNvPicPr/>
          <p:nvPr/>
        </p:nvPicPr>
        <p:blipFill>
          <a:blip r:embed="rId1"/>
          <a:stretch/>
        </p:blipFill>
        <p:spPr>
          <a:xfrm>
            <a:off x="3714840" y="5572080"/>
            <a:ext cx="5276880" cy="660600"/>
          </a:xfrm>
          <a:prstGeom prst="rect">
            <a:avLst/>
          </a:prstGeom>
          <a:ln w="0">
            <a:noFill/>
          </a:ln>
        </p:spPr>
      </p:pic>
      <p:pic>
        <p:nvPicPr>
          <p:cNvPr id="409" name="Rectangle 2" descr=""/>
          <p:cNvPicPr/>
          <p:nvPr/>
        </p:nvPicPr>
        <p:blipFill>
          <a:blip r:embed="rId2"/>
          <a:stretch/>
        </p:blipFill>
        <p:spPr>
          <a:xfrm>
            <a:off x="255600" y="79200"/>
            <a:ext cx="8437680" cy="1335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14200" y="1643040"/>
            <a:ext cx="4500720" cy="5214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orbel"/>
              </a:rPr>
              <a:t>Liquid Chromatography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Mobile Phase: Liquid; Stationary Phase: Solid/Liquid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HPLC, NPLC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est for Water Pollutio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nalyze metal ions + organic compounds in water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Other Application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purification of a drug produc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4" descr=""/>
          <p:cNvPicPr/>
          <p:nvPr/>
        </p:nvPicPr>
        <p:blipFill>
          <a:blip r:embed="rId3"/>
          <a:stretch/>
        </p:blipFill>
        <p:spPr>
          <a:xfrm>
            <a:off x="5000760" y="2214720"/>
            <a:ext cx="335736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http://www.nslc.wustl.edu/sicklecell/part2/chroma1.gif"/>
          <p:cNvPicPr/>
          <p:nvPr/>
        </p:nvPicPr>
        <p:blipFill>
          <a:blip r:embed="rId1"/>
          <a:stretch/>
        </p:blipFill>
        <p:spPr>
          <a:xfrm>
            <a:off x="4357800" y="1928880"/>
            <a:ext cx="2571480" cy="20001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http://www.nslc.wustl.edu/sicklecell/part2/chroma2.gif"/>
          <p:cNvPicPr/>
          <p:nvPr/>
        </p:nvPicPr>
        <p:blipFill>
          <a:blip r:embed="rId2"/>
          <a:stretch/>
        </p:blipFill>
        <p:spPr>
          <a:xfrm>
            <a:off x="6858000" y="1857240"/>
            <a:ext cx="1905120" cy="194328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2" descr=""/>
          <p:cNvPicPr/>
          <p:nvPr/>
        </p:nvPicPr>
        <p:blipFill>
          <a:blip r:embed="rId3"/>
          <a:stretch/>
        </p:blipFill>
        <p:spPr>
          <a:xfrm>
            <a:off x="225360" y="152280"/>
            <a:ext cx="846792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3"/>
          <p:cNvSpPr/>
          <p:nvPr/>
        </p:nvSpPr>
        <p:spPr>
          <a:xfrm>
            <a:off x="357120" y="1643040"/>
            <a:ext cx="55008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 separatio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as / Liquid Chromat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tationary Phase Rotated; 2 Mobile Phases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olar Mobile Phas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erse Rf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6" descr="http://www.nslc.wustl.edu/sicklecell/part2/chroma3.gif"/>
          <p:cNvPicPr/>
          <p:nvPr/>
        </p:nvPicPr>
        <p:blipFill>
          <a:blip r:embed="rId4"/>
          <a:stretch/>
        </p:blipFill>
        <p:spPr>
          <a:xfrm>
            <a:off x="6715080" y="3857760"/>
            <a:ext cx="1955880" cy="22222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7"/>
          <p:cNvSpPr/>
          <p:nvPr/>
        </p:nvSpPr>
        <p:spPr>
          <a:xfrm>
            <a:off x="4929120" y="3429000"/>
            <a:ext cx="42876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7643880" y="3500280"/>
            <a:ext cx="2858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7500960" y="5643720"/>
            <a:ext cx="3571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Straight Arrow Connector 11"/>
          <p:cNvCxnSpPr/>
          <p:nvPr/>
        </p:nvCxnSpPr>
        <p:spPr>
          <a:xfrm>
            <a:off x="5785920" y="2642760"/>
            <a:ext cx="1001160" cy="2520"/>
          </a:xfrm>
          <a:prstGeom prst="straightConnector1">
            <a:avLst/>
          </a:prstGeom>
          <a:ln cap="rnd" w="2232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421" name="Straight Arrow Connector 13"/>
          <p:cNvCxnSpPr/>
          <p:nvPr/>
        </p:nvCxnSpPr>
        <p:spPr>
          <a:xfrm flipH="1">
            <a:off x="7714440" y="3501720"/>
            <a:ext cx="2520" cy="500760"/>
          </a:xfrm>
          <a:prstGeom prst="straightConnector1">
            <a:avLst/>
          </a:prstGeom>
          <a:ln cap="rnd" w="25560">
            <a:solidFill>
              <a:srgbClr val="f0a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le 5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Corbel"/>
              </a:rPr>
              <a:t>This concludes the present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www.rpi.edu/dept/chem-eng/Biotech-Environ/CHROMO/part.gif"/>
          <p:cNvPicPr/>
          <p:nvPr/>
        </p:nvPicPr>
        <p:blipFill>
          <a:blip r:embed="rId1"/>
          <a:stretch/>
        </p:blipFill>
        <p:spPr>
          <a:xfrm>
            <a:off x="5643720" y="3071880"/>
            <a:ext cx="3530520" cy="3103560"/>
          </a:xfrm>
          <a:prstGeom prst="rect">
            <a:avLst/>
          </a:prstGeom>
          <a:ln w="0">
            <a:noFill/>
          </a:ln>
        </p:spPr>
      </p:pic>
      <p:pic>
        <p:nvPicPr>
          <p:cNvPr id="319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499760"/>
            <a:ext cx="6215040" cy="53578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orbel"/>
              </a:rPr>
              <a:t>Partition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Based on the </a:t>
            </a: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thin film formed on the surface of a solid support by a liquid stationary phas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Solute equilibrates between the mobile phase and the stationary liquid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orbel"/>
              </a:rPr>
              <a:t>Ion Exchange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Resin is used to covalently attach anions or cations by electrostatic forc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Solute Mobile Liquid Phase have opposite charg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5" descr="affin.gif"/>
          <p:cNvPicPr/>
          <p:nvPr/>
        </p:nvPicPr>
        <p:blipFill>
          <a:blip r:embed="rId1"/>
          <a:stretch/>
        </p:blipFill>
        <p:spPr>
          <a:xfrm>
            <a:off x="4886280" y="3357720"/>
            <a:ext cx="4257720" cy="242856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642680"/>
            <a:ext cx="5614920" cy="500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6000"/>
          </a:bodyPr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orbel"/>
              </a:rPr>
              <a:t>Molecular Exclusion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No attraction between </a:t>
            </a: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stationary phase and solut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Liquid or Gaseous Mobile Phase separates  molecules according to siz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000000"/>
                </a:solidFill>
                <a:latin typeface="Corbel"/>
              </a:rPr>
              <a:t>Affinity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Most selectiv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Interaction between only 1 component of solute and stationary phase molecul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rbel"/>
              </a:rPr>
              <a:t>Only the specific component is attracted to the stationary phase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285840" y="1642680"/>
            <a:ext cx="4643280" cy="50007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Adsorption: When a fluid solute accumulates on the surface of a solid or liqui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Different amounts of the components of a mixture are adsorbed to the 2 phas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As mobile phase moves through stationery phase, the substances that are easily adsorbed will ‘lag’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orbel"/>
              </a:rPr>
              <a:t>Separation created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http://www.rpi.edu/dept/chem-eng/Biotech-Environ/CHROMO/adsorp.gif"/>
          <p:cNvPicPr/>
          <p:nvPr/>
        </p:nvPicPr>
        <p:blipFill>
          <a:blip r:embed="rId2"/>
          <a:stretch/>
        </p:blipFill>
        <p:spPr>
          <a:xfrm>
            <a:off x="5000760" y="2143080"/>
            <a:ext cx="378612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-360" y="1643040"/>
            <a:ext cx="5072040" cy="521496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3000"/>
          </a:bodyPr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Archer JP Martin and Richard LM Synge in 1941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trip of porous filter paper substituted for powder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Used to separate protei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Later used to Separate and Identify components of various mixtur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industrial settings, Paper Chromatography has been replaced by more sophisticated method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lnSpc>
                <a:spcPct val="9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http://nobelprize.org/nobel_prizes/chemistry/laureates/1952/martin.jpg"/>
          <p:cNvPicPr/>
          <p:nvPr/>
        </p:nvPicPr>
        <p:blipFill>
          <a:blip r:embed="rId2"/>
          <a:stretch/>
        </p:blipFill>
        <p:spPr>
          <a:xfrm>
            <a:off x="4786200" y="2857680"/>
            <a:ext cx="2071800" cy="2903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http://nobelprize.org/nobel_prizes/chemistry/laureates/1952/synge.jpg"/>
          <p:cNvPicPr/>
          <p:nvPr/>
        </p:nvPicPr>
        <p:blipFill>
          <a:blip r:embed="rId3"/>
          <a:stretch/>
        </p:blipFill>
        <p:spPr>
          <a:xfrm>
            <a:off x="6858000" y="2857680"/>
            <a:ext cx="20718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356760" y="1600200"/>
            <a:ext cx="4071960" cy="50436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4000"/>
          </a:bodyPr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lace a drop of a mixture on the pap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Dip one edge of the paper into the mobile phas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rough capillary action, adsorbent will move up the pape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Once adsorption occurs and the paper dries, spray-on reagent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83480" indent="-483480">
              <a:lnSpc>
                <a:spcPct val="90000"/>
              </a:lnSpc>
              <a:buClr>
                <a:srgbClr val="f0ad00"/>
              </a:buClr>
              <a:buSzPct val="80000"/>
              <a:buFont typeface="Corbe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Reagent will reveal change in color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Picture 2" descr="paper chromatogram of dyes and mixtures"/>
          <p:cNvPicPr/>
          <p:nvPr/>
        </p:nvPicPr>
        <p:blipFill>
          <a:blip r:embed="rId2"/>
          <a:stretch/>
        </p:blipFill>
        <p:spPr>
          <a:xfrm>
            <a:off x="4357800" y="2286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3" descr=""/>
          <p:cNvPicPr/>
          <p:nvPr/>
        </p:nvPicPr>
        <p:blipFill>
          <a:blip r:embed="rId1"/>
          <a:stretch/>
        </p:blipFill>
        <p:spPr>
          <a:xfrm>
            <a:off x="463680" y="115920"/>
            <a:ext cx="8308800" cy="1657440"/>
          </a:xfrm>
          <a:prstGeom prst="rect">
            <a:avLst/>
          </a:prstGeom>
          <a:ln w="0">
            <a:noFill/>
          </a:ln>
        </p:spPr>
      </p:pic>
      <p:sp>
        <p:nvSpPr>
          <p:cNvPr id="335" name="Content Placeholder 3"/>
          <p:cNvSpPr/>
          <p:nvPr/>
        </p:nvSpPr>
        <p:spPr>
          <a:xfrm>
            <a:off x="785880" y="3214800"/>
            <a:ext cx="77151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6160" rIns="45720" tIns="0" bIns="0" anchor="t">
            <a:noAutofit/>
          </a:bodyPr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urpo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To predict the composition of various mixtures using Paper Chromatog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6:19:30Z</dcterms:created>
  <dc:creator>Samim</dc:creator>
  <dc:description/>
  <dc:language>en-US</dc:language>
  <cp:lastModifiedBy>HASHAM</cp:lastModifiedBy>
  <dcterms:modified xsi:type="dcterms:W3CDTF">2009-01-03T21:25:04Z</dcterms:modified>
  <cp:revision>52</cp:revision>
  <dc:subject/>
  <dc:title>Chromatographic Separation</dc:title>
</cp:coreProperties>
</file>